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77D1-BD6B-4FE5-B0EA-03DCC6B0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862-313F-434B-93C3-960B771F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D66-77F2-47BA-807A-52C9E84A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insert this slide into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this template as a presentation (.ppt file) on your comp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he presentation that will contain the imag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, place your insertion point after the slide that will precede the image slide. (Make sure you don't select a slide. Your insertion point should be between the slid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nu,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Fin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Pres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locate and select the presentation that contains the image slide, and then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select the imag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ep source format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ck box. If you do not select this check box, the copied slide will inherit the design of the slide that precedes it in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F312-ACC4-432B-9A98-F1CD311B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1A9-0689-415C-8191-24F304E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DC3-4B19-4787-9A4C-513A066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503-F985-4B5D-8CD3-6BC4627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FA7-923F-4746-9E94-24B4C431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A5DA-E748-4C8D-9D7D-03C6279D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56FD-05C6-4229-9F82-D8CC0F04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D0A-8950-4858-881E-241CC6D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F407-4515-466B-8936-803B4DB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645-A23C-4698-B761-AFE2A730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78D9-3880-4E3E-98E8-ACC3F946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8E61-133D-498F-BC23-5CA1C3A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497-EA9C-4FD2-93AD-B0F300C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159-085B-4260-8D9A-DA8FC11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CC88-DC3B-4B40-AE09-EA32678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6339-4F85-497F-BAEE-350BFD8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C8D0-11DA-4FDC-836A-C6CA7927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A21-B8C3-4E25-8E71-7612673A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3EDCA-D584-4100-BF41-D2DCD4A1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02D2-D666-4604-B833-0E20A5E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0C15F-28C7-466F-A3F0-227647A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06454-5286-486F-A86C-486179E5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F981B-7F67-4094-A414-EE46AA7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71B-585D-4879-AA73-D1A58E1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0E6CE-D872-4D35-8F3B-8EFC1A9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CBD87-ABF8-4748-B66A-E7E1B6C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52E3B-2650-440C-AFA6-A115FD3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4938-C7F8-4EF9-9806-8E92C96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839BB-6E03-40B4-ADDD-9EFD750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AB7FE-B3FD-48B6-9AD7-9C0807F6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14559-327A-4D57-B8A4-08B2A66F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C679C-4C0B-4A22-A74C-D0DAC161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ECF65-CF67-49DC-85F8-14656D9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14129-2FC6-4ABB-A8FF-59A5A5F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790-A9DA-4616-8341-548B3074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53255-EB45-4298-8A7A-838CE68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F99C2-5447-4245-828A-F5E1BF91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EBAD7-8AB5-49FD-A8B5-96072CCE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14BE0-DFCD-43A0-BB88-288A441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5B567-3704-4575-904A-06006DF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C1D25-CCF4-4D29-8AC6-C6A1B8D5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E5D89-9972-4729-8C66-912E441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232C3-EBF7-404C-BA2C-342E28D9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B981A-5D7C-4493-8DE8-2784F84D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FCD3A-D5A4-4D8D-BD4A-38AE18DB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5E8-335F-4DE2-9A6B-1263F14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5EE11-4DF4-48BD-A962-45B13E5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779A5-052E-4E06-8D77-D625233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8DD3F-AE91-462C-AFFB-7FCB98A9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213A5-2A32-47C3-8443-473F74F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39F80-06D5-4096-804E-8D84B626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90C61-F057-4CA8-927D-5B599CC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1FB94-82FA-4341-8301-5E1F3B7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B5096-DF1D-4BB3-AACA-E28AE2B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23F16-247A-49F7-8E4B-DB93907B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7DE65-E1D6-4C56-A409-03A3D84F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272-3A42-48AC-B4AF-A8C502D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47758-A1B0-467A-9DAA-05ED57F4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98C6F-EAF6-4C54-8A0C-AABCEE08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D0D9-7501-4727-ACD4-42121B4F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CB5A-C25A-4E73-A0A0-73D8921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FF4B-090D-4510-B4E7-05E0B7EB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9B7D-301B-49DF-AF95-71E0E91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C822-3F4F-4195-9BCB-B15C7A4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6A72-F434-45DD-B576-A9789ED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2DA5-27AE-442A-B9CE-F1FF1CFD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9FE-3B52-4A9E-AD1D-A4A8985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253-A1E2-4EDC-9F0B-DE4F00E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027B1-AA2D-4191-AFC6-EC70440E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629F2-4359-4815-A817-64E5478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10A69-B28A-409B-8F07-B6EF3677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519FD-70F3-4962-B6EC-DAF6176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5C658-9170-49CD-86A2-FB02E406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C0D20-FFB5-4771-94A7-C0D52CE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B24F9-CFE1-4BDE-9B56-C8F9058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2A50-7B54-4B1B-9689-F59DE2A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F37C5-D583-4376-8528-6EC2773A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162A3-2695-4B18-A9D8-1984A13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955-9A0E-46AD-A35F-4C130E3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0DB81-8101-4E3C-8A96-70C3304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1DED0-0ACD-4C8A-BF06-CD76073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2ED30-F772-41F3-8F27-518C546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8EBFE-5197-4771-A388-D8BCFD97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B9FD3-A6A6-4954-8A0D-22A17D66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28D1-5172-4147-B52B-50CEE6EB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4774-25F6-467E-8AFC-8660C15A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D576-A7F4-4F27-85F4-71C900FB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D077-6649-4A57-B31B-B0E4EDFB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3024E-208B-402E-AEAD-F3672088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AE2-07A7-4121-8A04-179F030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6D84-8673-4797-9D20-4ABD6507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E2891-E105-4950-9F5B-A4DBC4C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6CD46-08C3-4DF5-B125-AF2E42C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BE434-AEAF-46BE-975D-1C45172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78674-4975-4930-9781-69922C85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948B-3C8E-4F08-A68C-BF4F7E84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4884-D6EF-4CF8-85B6-2D09AF31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98A-D9A3-4810-B009-9DC97DB4B9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494-2EC6-48A5-8762-464D0CA71B9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D16-91B7-435A-BA0A-68ECEFCFF98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BBE-AA6A-48BE-9478-CC750B2C14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EDA0-B926-473E-8672-865BE82EA1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70E9-F956-4A14-884D-93D196A6C1B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B562-5562-4CF2-BE24-E9102ECAF95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2FC-04CB-4BDF-A801-562FC8847F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1330200" y="415800"/>
            <a:ext cx="642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lant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rojec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nelle Esh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Water lilies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"/>
          <p:cNvSpPr/>
          <p:nvPr/>
        </p:nvSpPr>
        <p:spPr>
          <a:xfrm>
            <a:off x="2647800" y="1947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232000" y="996840"/>
            <a:ext cx="52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la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1152360" y="2801880"/>
            <a:ext cx="682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rojec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nell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he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udent S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uter generated po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readsheet and grap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urn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fol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idspi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izmo t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quest For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gestions and comments welcom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j0402208"/>
          <p:cNvPicPr/>
          <p:nvPr/>
        </p:nvPicPr>
        <p:blipFill>
          <a:blip r:embed="rId1"/>
          <a:stretch/>
        </p:blipFill>
        <p:spPr>
          <a:xfrm>
            <a:off x="317520" y="0"/>
            <a:ext cx="854532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1496880" y="5356080"/>
            <a:ext cx="58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 did i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nit Summar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udents will investigate and understand that flowering plants undergo a series of orderly changes in their life cycles. Students will be growing plants and charting growth. They will label the parts of a flowering plant, describe what all plants need to survive, and examine how plants reproduce. They will engage in experiments to observe how water and temperature affect plant growth and keep a journal of observations. Group work, email, and independent research will be used to teach collaboration skills. Students will use checklists, charts, graphs and a rubric to evaluate their group and individual succes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urriculum-Framing</a:t>
            </a: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ues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sential Ques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do we need to survive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it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y are plants importa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basic parts of plant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you describe a plant life cycl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 water and temperature affect plant growth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do plants reproduc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do all plants need to survi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art of a flowering plant stores the seeds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w does water travel from the ground to the other parts of the plan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arts of plants do you ea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happened to the plant we did not water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happened to the plant we overwatered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ch plant grew best the one in the freezer or the one in the sun? Why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did you find inside the lima bean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 plants need air to grow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Proj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ject will help students develop 2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ntury skills through the follow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ing collaboration and group wo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engthening their ability to frame, analyze, and solve proble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roving communication skil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tting and meeting high standards and goals individually and in group intera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Gauging Student Needs Assess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idspriation ac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rainstorming and journ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lists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readsheet data e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uizmo t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itten test and teacher obser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ubric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Object 4" descr=""/>
          <p:cNvPicPr/>
          <p:nvPr/>
        </p:nvPicPr>
        <p:blipFill>
          <a:blip r:embed="rId1"/>
          <a:stretch/>
        </p:blipFill>
        <p:spPr>
          <a:xfrm>
            <a:off x="3117960" y="2536920"/>
            <a:ext cx="506160" cy="3967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5" descr=""/>
          <p:cNvPicPr/>
          <p:nvPr/>
        </p:nvPicPr>
        <p:blipFill>
          <a:blip r:embed="rId2"/>
          <a:stretch/>
        </p:blipFill>
        <p:spPr>
          <a:xfrm>
            <a:off x="3876840" y="2549520"/>
            <a:ext cx="4460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y Goals For The Cour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technology to improv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te an interactive uni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ke learning more enjoyable for my 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del ways students can access 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inform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als For My Stud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to work as a team memb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f assess their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ake responsibility for their own lear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21 century skills to enhance their education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35:48Z</dcterms:created>
  <dc:creator>veshelman</dc:creator>
  <dc:description/>
  <cp:keywords/>
  <dc:language>en-US</dc:language>
  <cp:lastModifiedBy>veshelman</cp:lastModifiedBy>
  <dcterms:modified xsi:type="dcterms:W3CDTF">2009-04-18T12:57:01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00021033</vt:lpwstr>
  </property>
</Properties>
</file>